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658494"/>
        <c:axId val="88326782"/>
      </c:barChart>
      <c:catAx>
        <c:axId val="865849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8326782"/>
        <c:crosses val="autoZero"/>
        <c:auto val="1"/>
        <c:lblAlgn val="ctr"/>
        <c:lblOffset val="100"/>
        <c:noMultiLvlLbl val="0"/>
      </c:catAx>
      <c:valAx>
        <c:axId val="8832678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65849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93559-8EA3-40E9-BDA6-D129922AC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3EDC-8626-49DF-865F-BA5EBC22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4ABC5-4850-4528-A6BD-46F6E8EA0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AFD8-1D1F-4EF1-A697-0ED92B7FB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37968-F4AB-45A0-B705-7C03808C5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90462-CB1E-4B2F-8F12-F1FC98076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82CE6-7D4E-42BD-93A7-F758B1DF7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94569-838D-4D8A-A70A-510C56A48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91AB9-5230-4A45-A3ED-F6D3AF3B0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0DB3E-DF21-40D6-8A7D-3F45C8224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61533-B786-404F-9BCB-762A24AC4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5B53-E327-4DFE-89C2-F818DC46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E268-7342-4A26-8B9E-8F9237E7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8413E-AC52-4EB3-B44F-D1CEE2F69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0253-B084-4364-B667-921FC0BDD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FEB69-09B3-490C-B326-DDF26A407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7EB16-7327-4414-9754-2D7840173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88DA-CB4E-4F80-B9FC-A197AE950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7352-0EE9-4E5A-AEE5-320FF2259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DF7A-6335-40DE-84CF-494700FB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CE96C-A2D5-45B2-B64A-97A4E096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A06B-25FE-4BF5-AA33-5CCC0E494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0DC0-00C4-49AE-8F38-CF47FC1E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FE54-AC0D-4542-8928-52D55AC88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B6DE3-4B3C-42B8-B788-55D57582DA9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CFE5D-F271-472B-8AD5-7CF517958A2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