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78982626"/>
        <c:axId val="77543431"/>
      </c:barChart>
      <c:catAx>
        <c:axId val="78982626"/>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77543431"/>
        <c:crosses val="autoZero"/>
        <c:auto val="1"/>
        <c:lblAlgn val="ctr"/>
        <c:lblOffset val="100"/>
        <c:noMultiLvlLbl val="0"/>
      </c:catAx>
      <c:valAx>
        <c:axId val="77543431"/>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78982626"/>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84489-A604-445E-8AEC-5285E1C8A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166C0-33BD-4E2A-9C71-6D86DEBFC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3F9EC-761C-4063-88B8-11E32FB0F6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B1217D-112C-42C2-A69C-212A20D7A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F22B1A-45C6-45E7-A8C0-6A240EE07A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1A793A-C8BE-4743-90E8-545D074B6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CB2AD6-9687-4862-9122-4D9CDB3FA7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74BA1D-BB3B-4C58-9B37-3BF83C68C6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9E39A0-6717-4AE1-AF46-917D88CB08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E85F63-B770-463E-859B-89C855A9E9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D4F13-4BB9-4F3E-99E7-7FCEE2DEF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96770-7A7C-491B-800F-ADF1B4592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01945-CEDA-44DD-8644-57A9BC0C1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AC1AA-22FC-4ADC-AD54-AE309FECF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F64FB3-981F-4ABB-A2D9-F07498C7AC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55B9AC-CAC5-4418-A025-2C080D2B44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3B4C7D-FF2D-4421-842F-5AB7CCF386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806F9-6B21-422B-BEA3-E455CF30D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03210-A53A-41A2-B227-FFBB3DC9B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3C0D6-8E00-48BA-91C0-FC27A9A7B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A1FD6-4BC7-448E-BF58-B981B7ECE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FADD3-9729-4E1D-8B92-A63F8F4BF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A3DC9-B447-4FF1-9237-7E7B1B935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C1E29-2F53-4A9A-8213-07CB406C61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0417F8-A84F-4D19-B769-BAFAB117BE4A}"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823E81-F608-4FCF-B68F-F93A24126D5E}"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