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26318260"/>
        <c:axId val="70167479"/>
      </c:barChart>
      <c:catAx>
        <c:axId val="26318260"/>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0167479"/>
        <c:crosses val="autoZero"/>
        <c:auto val="1"/>
        <c:lblAlgn val="ctr"/>
        <c:lblOffset val="100"/>
        <c:noMultiLvlLbl val="0"/>
      </c:catAx>
      <c:valAx>
        <c:axId val="70167479"/>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6318260"/>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78387-5362-4D89-BB58-88A65B721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997B3-CA43-47F6-BB92-9DB8A0A28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96097-F8FC-44CF-93F5-8414BF5C8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841BC-D34D-4851-AC30-5ACC92F49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E6218C-DAB9-4B13-A880-3302DF2497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52B69-FE2A-43A3-93DF-DF5DBBC23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A227B-1863-4249-8E84-E55F6E9D9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D4A28-B954-47E4-A06A-340AA8AAD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369CF-A897-4106-98B7-3124611C7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DC3FE-A12D-4826-913F-5A5121ED6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797E0-9482-464F-9E10-15A532B7D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EEAF5-AE36-4653-B68A-6B30AB767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E134D-3047-40C3-A90E-A414A87B0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73A73-D613-4932-B1B2-B6E6E82EA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81C3E-F90A-4A75-B63A-79EACEF3A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83DC1C-8979-41B0-973F-DD5EB3678E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1A392C-2D89-48CC-82C2-8D83F1E0F1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4CB77-4F98-4E2B-B811-A5076BE91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EEC96-8DEB-4719-9F71-8FD57133E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C2771-9A68-4478-AEE6-4E2EB9A50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117DD-5FD9-4D15-AA81-58D24EA5D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93D72-59BE-47BD-9564-C3BA61A36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740BD-8E21-473C-AE33-780EE3752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E6060-3078-4581-95F4-6CC606A14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D4E861-0DBE-4AFF-8179-B92C81E005A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E03EF1-C02A-4B9B-B211-1B38C3BC827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